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3A1-9C48-4C59-B608-DE5127025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5BB3-CFBC-475F-96F5-F338110C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5105-AEAA-4431-91E4-8C2DB0525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406-ED8D-4955-89C0-AE43E36D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8DBE-31BE-4950-98ED-B56098602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6724-03EF-4AFA-B8EC-C53D5B223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09FF2-7321-4EF7-9EA1-AB6948AC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125E-3CAD-466B-AADC-0FE44A82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CCD0-8D95-402C-B202-DB2836EA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3D12-18CA-42BA-A6D5-C8C7BE52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83B-4ED1-4F01-966C-2BADDF352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46B3-DE58-400F-9594-A3930518B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C7EA-45FE-4A58-9782-8C9BD6A0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B6E8-A0E3-4D12-BC80-91E6EE9E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A5E8-71CB-4880-8010-D712836F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AB88-1D53-4DC3-BFF5-19B497676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D9A3-7965-4E53-A4FD-201B62EDE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4CBC4-2849-48FE-B6B0-D9D78540D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74D94-DAE5-423F-813C-BF1E2689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881C0-236B-4D49-B9DD-4DFA7BAF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3BB2C-777C-47F8-B031-80080D9D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88400-18A8-4545-8EE9-F0975A5A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9D04-2871-41B9-9824-EB4D0361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F7AB8-1E7B-4760-83B0-D9E717EC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7633-8CBE-44F7-AF9C-9A1DCAC1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9EF4-7DEB-4476-AAFE-35F65A72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0F63B-3B6C-4F2F-91B2-A1B351F1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E1325-DC41-4B2D-A7EE-EC0F18F8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784A-C5E9-4694-B526-49BF1C191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ADFEC-D9F6-4C5D-A642-1227B491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38251-98C0-4B13-8BC0-C9CCD2089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B8EB0-BCDE-4F89-9616-5FB1E260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065B7-8523-4236-B89D-7B8C14CF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104-5E82-4D45-9E67-C2279EE18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48CBD-FBF6-4052-93C2-12BEA04F5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60A90-338B-4500-A3A2-A9ADEE8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E0D18-050D-4934-8D13-3446B63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DEA0-0905-4F11-8F46-30572202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EF1E-D5CE-45D2-AC09-2501FB75C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8C9B5-9464-42BD-8EBD-22BC69C3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62B46-3DA3-4B6B-BAE4-9ECD0C3F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D8672-4AA5-4872-9A18-194362B9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7F26D-AB45-4393-A85B-ECFB89C2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E588E-5C95-481E-B298-0708E8B5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8A5A-EAD7-44F4-9F2D-27ED9FAC0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F1392-3D80-4F17-8186-39930BE8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CEF5A-20C7-4877-B285-36A661EB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98533-908C-41B8-A888-A8D65158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36335-CFB5-4ED1-839B-A3AA103E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938FD-1073-4682-BA5D-DA3C2A80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207E6-C93C-4603-B138-A23B7E69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F082E-765A-4C60-84DF-4BE1EDD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C5FC-EFE2-4DE2-B342-A915A31E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900D0-38C6-4BE7-A0D9-BC255D7A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DFEC-D6BE-43D4-AB39-F9686438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ECA1-84DA-422E-BBA9-5E35EC2F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9B5DD-4551-441F-9B26-BED398FA6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349E-C3A0-4DC7-A754-AFCC61BC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D6C-65A5-4BEF-96E5-21C391E3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411A-7064-4B12-BFE5-9BEA2E7C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96AD-17A1-4B1B-BF12-5AA9DB20204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FA7D-A3BF-4FC4-B336-3F21D6A71DFD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dddddd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dddddd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ddddd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dddddd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dddddd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dddddd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dddddd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CB8F-5C71-4E10-9CD1-90870A025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97B9-ED7F-41A8-9108-4D43653BC2D0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696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8f8f8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A918E-EEDA-4654-B73D-32F50DFD7CCE}" type="slidenum">
              <a:rPr b="0" lang="en-US" sz="12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Calot</a:t>
            </a:r>
            <a:r>
              <a:rPr b="0" lang="ro-RO" sz="2200" spc="-1" strike="noStrike">
                <a:solidFill>
                  <a:srgbClr val="ffffff"/>
                </a:solidFill>
                <a:latin typeface="Tw Cen MT"/>
              </a:rPr>
              <a:t>ă Andreea</a:t>
            </a:r>
            <a:endParaRPr b="0" lang="en-US" sz="22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5" descr=""/>
          <p:cNvPicPr/>
          <p:nvPr/>
        </p:nvPicPr>
        <p:blipFill>
          <a:blip r:embed="rId1"/>
          <a:stretch/>
        </p:blipFill>
        <p:spPr>
          <a:xfrm>
            <a:off x="304920" y="324000"/>
            <a:ext cx="8557920" cy="2322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8" descr=""/>
          <p:cNvPicPr/>
          <p:nvPr/>
        </p:nvPicPr>
        <p:blipFill>
          <a:blip r:embed="rId2"/>
          <a:stretch/>
        </p:blipFill>
        <p:spPr>
          <a:xfrm>
            <a:off x="2133720" y="2666880"/>
            <a:ext cx="4967280" cy="3548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ontent Placeholder 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4038840" cy="2584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395" name=""/>
          <p:cNvSpPr txBox="1"/>
          <p:nvPr/>
        </p:nvSpPr>
        <p:spPr>
          <a:xfrm>
            <a:off x="4800600" y="2133720"/>
            <a:ext cx="4038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Si vous visitez la </a:t>
            </a:r>
            <a:r>
              <a:rPr b="0" lang="ro-RO" sz="2800" spc="-1" strike="noStrike">
                <a:solidFill>
                  <a:srgbClr val="f8f8f8"/>
                </a:solidFill>
                <a:latin typeface="Tw Cen MT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Roumanie, on pouvait voir un Roumain que conduire une charrette sur laquelle est une voiture Dacia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La Roumanie a</a:t>
            </a:r>
            <a:r>
              <a:rPr b="0" lang="ro-RO" sz="2800" spc="-1" strike="noStrike">
                <a:solidFill>
                  <a:srgbClr val="f8f8f8"/>
                </a:solidFill>
                <a:latin typeface="Tw Cen MT"/>
              </a:rPr>
              <a:t>   </a:t>
            </a: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 beaucoup de beaux paysages et des monuments historiques visités par les étrangers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397" name="Content Placeholder 5" descr=""/>
          <p:cNvPicPr/>
          <p:nvPr/>
        </p:nvPicPr>
        <p:blipFill>
          <a:blip r:embed="rId1"/>
          <a:stretch/>
        </p:blipFill>
        <p:spPr>
          <a:xfrm>
            <a:off x="4572000" y="1523880"/>
            <a:ext cx="4038480" cy="32972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876920" y="190476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Lorsque certains amis</a:t>
            </a:r>
            <a:r>
              <a:rPr b="0" lang="ro-RO" sz="2800" spc="-1" strike="noStrike">
                <a:solidFill>
                  <a:srgbClr val="f8f8f8"/>
                </a:solidFill>
                <a:latin typeface="Tw Cen MT"/>
              </a:rPr>
              <a:t>    </a:t>
            </a: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 sont venus à la Roumanie, après une longue période,  première fois ils ont visité le Palais du Parlement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399" name="Content Placeholder 10" descr=""/>
          <p:cNvPicPr/>
          <p:nvPr/>
        </p:nvPicPr>
        <p:blipFill>
          <a:blip r:embed="rId1"/>
          <a:stretch/>
        </p:blipFill>
        <p:spPr>
          <a:xfrm>
            <a:off x="533520" y="476280"/>
            <a:ext cx="3733560" cy="28004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00" name="Picture 11" descr=""/>
          <p:cNvPicPr/>
          <p:nvPr/>
        </p:nvPicPr>
        <p:blipFill>
          <a:blip r:embed="rId2"/>
          <a:stretch/>
        </p:blipFill>
        <p:spPr>
          <a:xfrm>
            <a:off x="490680" y="3462480"/>
            <a:ext cx="3787560" cy="2743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Puis ils sont allés au musée du village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Ils ont été impressionnés par les maisons traditionnelles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402" name="Content Placeholder 4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38840" cy="3029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03" name="Picture 6" descr=""/>
          <p:cNvPicPr/>
          <p:nvPr/>
        </p:nvPicPr>
        <p:blipFill>
          <a:blip r:embed="rId2"/>
          <a:stretch/>
        </p:blipFill>
        <p:spPr>
          <a:xfrm>
            <a:off x="4789440" y="3529080"/>
            <a:ext cx="4013280" cy="26607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4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038480" cy="2678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405" name=""/>
          <p:cNvSpPr txBox="1"/>
          <p:nvPr/>
        </p:nvSpPr>
        <p:spPr>
          <a:xfrm>
            <a:off x="4648320" y="233172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buClr>
                <a:srgbClr val="ebebe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Nous étions ensemble à la montagne. Nous avons vu de magnifiques paysages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599840"/>
            <a:ext cx="3276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w Cen MT"/>
              </a:rPr>
              <a:t>Ils étaient très excités à propos de ce pays. Ils ont promis de revenir.</a:t>
            </a:r>
            <a:endParaRPr b="0" lang="en-US" sz="2800" spc="-1" strike="noStrike">
              <a:solidFill>
                <a:srgbClr val="f8f8f8"/>
              </a:solidFill>
              <a:latin typeface="Tw Cen MT"/>
            </a:endParaRPr>
          </a:p>
        </p:txBody>
      </p:sp>
      <p:pic>
        <p:nvPicPr>
          <p:cNvPr id="407" name="Content Placeholder 4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78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8:40:48Z</dcterms:created>
  <dc:creator>Adda</dc:creator>
  <dc:description/>
  <dc:language>en-US</dc:language>
  <cp:lastModifiedBy>Adda</cp:lastModifiedBy>
  <dcterms:modified xsi:type="dcterms:W3CDTF">2012-12-09T20:09:16Z</dcterms:modified>
  <cp:revision>7</cp:revision>
  <dc:subject/>
  <dc:title>Les vacances des roumains</dc:title>
</cp:coreProperties>
</file>